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55EF-96D4-4AC1-9239-94B6883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B77-7B16-45A7-840B-F2030E69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59A-F8E0-48F7-8910-7CA307037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47B-ACD9-4664-8002-18A298AA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ECD-EE2F-4EF5-9E00-39B53844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86A-CFDA-4FE7-871C-AFEBA0A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653-272A-471B-AB4A-6A403ABE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078-9134-491A-A3E8-1C273B3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FDB-1A78-4FD2-A2D8-FD16386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DA8-BA9F-4750-8D57-28B7F08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46E-80F2-4602-8852-5239A72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3CA-D566-4A5A-A30D-FEA285E6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1B4-43EC-42DC-9BB6-47B869F4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world belongs t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earth and all its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Psalm 2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ve and peace come toge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ustice and peace join ha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8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good and how lovely i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ive together in un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13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f the Lord’s disciples keep si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se stones would shout alou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uke 19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open our 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our mouths shall procla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51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17:11Z</dcterms:created>
  <dc:creator>Anon Anon</dc:creator>
  <dc:description/>
  <dc:language>en-US</dc:language>
  <cp:lastModifiedBy>Anon Anon</cp:lastModifiedBy>
  <dcterms:modified xsi:type="dcterms:W3CDTF">2005-08-09T05:04:47Z</dcterms:modified>
  <cp:revision>6</cp:revision>
  <dc:subject/>
  <dc:title>PowerPoint Presentation</dc:title>
</cp:coreProperties>
</file>